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6D2-5594-4FC8-B33E-45915BB6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809-9340-4B58-A80B-920DB537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F20-58AE-4FB5-8250-9D8F498C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602-DB6F-4501-9C68-7CC81FAB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D9F0-B4CC-4FC0-83FB-446D442A9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F81A-AA32-4CB8-93DA-72020798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F19C-1D89-4022-92CE-79706404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BF10-4049-4927-8935-E1FF100B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4C94-8C85-4858-B900-48F6FF4D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F429-6A2F-4CAA-857B-589DD521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16C5-D92E-4664-9D3E-E45E26E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27D-B236-47CE-A09A-CC4F60A8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3625-7D96-4BB4-98D5-E3945E10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3A68-ACB2-49BE-9B6F-B5547ACB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45DF-5FB3-480A-BD66-92F6AC08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0E82-C5F4-4D31-8887-524BF5C1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49CC-2D09-41B1-A8F1-7BA3B5BF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C17A-2F96-4D12-BBFC-891BC1E5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554-826D-4C0E-9CDE-FA1F4C93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9B5-0785-4B57-9FB2-494BA07C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256-B7CF-4510-8B34-1DCFD9FC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9F6D-583E-4BD5-BE19-F2908943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31AE-D978-4268-9B47-F5865257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DC3-4DE9-46F3-BC7B-CECC30D3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0443-0F24-48C9-AE6A-B95C3943890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4798-3259-4A36-9F29-63A8E96E19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87" name=""/>
          <p:cNvGraphicFramePr/>
          <p:nvPr/>
        </p:nvGraphicFramePr>
        <p:xfrm>
          <a:off x="155520" y="1357200"/>
          <a:ext cx="8832960" cy="4373640"/>
        </p:xfrm>
        <a:graphic>
          <a:graphicData uri="http://schemas.openxmlformats.org/drawingml/2006/table">
            <a:tbl>
              <a:tblPr/>
              <a:tblGrid>
                <a:gridCol w="1951200"/>
                <a:gridCol w="1293840"/>
                <a:gridCol w="3041640"/>
                <a:gridCol w="2546280"/>
              </a:tblGrid>
              <a:tr h="45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mmat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erson 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unt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unt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2115053D-6379-4E8D-9294-9C6D8518C52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662400" y="150012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3 Forming a Sen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28760" y="2071800"/>
            <a:ext cx="8715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ις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singular)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επετε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You (plural)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ς βλεπει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- A slave sees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ν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- Slaves see an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δουλοι βλεπουσιν αγγελους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laves see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86080" y="1641600"/>
            <a:ext cx="617220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erbs agree with their subject in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57120" y="3251160"/>
            <a:ext cx="8286840" cy="26845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three steps to trans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Work out the cases of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Work out why the different words have the cases they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Translate the sentence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214200" y="2428920"/>
            <a:ext cx="878688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ord)</a:t>
            </a:r>
            <a:r>
              <a:rPr b="0" lang="en-GB" sz="24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 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δουλους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slave)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–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 p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nom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δουλου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ecause it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tence = 'A lord has slaves.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143000" y="1714680"/>
            <a:ext cx="62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928800" y="221472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  <a:ea typeface="Arial"/>
              </a:rPr>
              <a:t>κυριος ἐχει δουλ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460520"/>
          <a:ext cx="5977080" cy="2271600"/>
        </p:xfrm>
        <a:graphic>
          <a:graphicData uri="http://schemas.openxmlformats.org/drawingml/2006/table">
            <a:tbl>
              <a:tblPr/>
              <a:tblGrid>
                <a:gridCol w="1992600"/>
                <a:gridCol w="1992240"/>
                <a:gridCol w="199224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6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ους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3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42920" y="4000680"/>
            <a:ext cx="10358280" cy="188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βλεπει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ν.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(singular) se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ἱ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αγγελοι βλεπουσιν.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 s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225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νθρωπος βλεπει τους αγγελου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l-GR" sz="1000" spc="-1" strike="noStrike">
                <a:solidFill>
                  <a:srgbClr val="ffffff"/>
                </a:solidFill>
                <a:latin typeface="Greek"/>
                <a:ea typeface="Times New Roman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erson see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g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214200" y="1658880"/>
            <a:ext cx="878688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wo special uses of the definite arti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Δαυι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David (not 'the David'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bstrac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ανθρωπ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the person’, also ‘humanity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νομ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= ‘law’ (as a concept), also ‘the law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o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rather than ‘a god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  <a:ea typeface="Arial"/>
              </a:rPr>
              <a:t>ὁ θε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5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PECIAL USES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DEFINITE ARTI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2" name="Rectangle 4"/>
          <p:cNvSpPr/>
          <p:nvPr/>
        </p:nvSpPr>
        <p:spPr>
          <a:xfrm>
            <a:off x="928800" y="2013120"/>
            <a:ext cx="70722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 or Plural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ular: he, she, or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lural: two possibilities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ου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Verdana"/>
              </a:rPr>
              <a:t>is always used before a vowel and at the end of a sen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EC0CA149-8CF4-4D1A-944C-246D3757AC8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.1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PRESENT TENSE OF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 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343080" y="4626000"/>
            <a:ext cx="8458200" cy="10076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e Greek word often means more than one Englis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71720" y="1785960"/>
          <a:ext cx="6765840" cy="1879560"/>
        </p:xfrm>
        <a:graphic>
          <a:graphicData uri="http://schemas.openxmlformats.org/drawingml/2006/table">
            <a:tbl>
              <a:tblPr/>
              <a:tblGrid>
                <a:gridCol w="761760"/>
                <a:gridCol w="1024200"/>
                <a:gridCol w="1593720"/>
                <a:gridCol w="1003320"/>
                <a:gridCol w="1023840"/>
                <a:gridCol w="1359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227CFD6A-68A8-4602-B7A9-04F94AC87B1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λυ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103" name="Group 28"/>
          <p:cNvGrpSpPr/>
          <p:nvPr/>
        </p:nvGrpSpPr>
        <p:grpSpPr>
          <a:xfrm>
            <a:off x="228600" y="1709640"/>
            <a:ext cx="8686080" cy="2362320"/>
            <a:chOff x="228600" y="1709640"/>
            <a:chExt cx="8686080" cy="2362320"/>
          </a:xfrm>
        </p:grpSpPr>
        <p:sp>
          <p:nvSpPr>
            <p:cNvPr id="104" name="Rectangle 4"/>
            <p:cNvSpPr/>
            <p:nvPr/>
          </p:nvSpPr>
          <p:spPr>
            <a:xfrm>
              <a:off x="228600" y="1709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1757880" y="1709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4604760" y="1709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7"/>
            <p:cNvSpPr/>
            <p:nvPr/>
          </p:nvSpPr>
          <p:spPr>
            <a:xfrm>
              <a:off x="6144840" y="1709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I am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228600" y="2087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9"/>
            <p:cNvSpPr/>
            <p:nvPr/>
          </p:nvSpPr>
          <p:spPr>
            <a:xfrm>
              <a:off x="1757880" y="2087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4604760" y="2087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ι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1"/>
            <p:cNvSpPr/>
            <p:nvPr/>
          </p:nvSpPr>
          <p:spPr>
            <a:xfrm>
              <a:off x="6144840" y="2087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sing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228600" y="2465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1757880" y="2465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4604760" y="2465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5"/>
            <p:cNvSpPr/>
            <p:nvPr/>
          </p:nvSpPr>
          <p:spPr>
            <a:xfrm>
              <a:off x="6144840" y="2465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He, she or it is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28600" y="2843640"/>
              <a:ext cx="15292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"/>
            <p:cNvSpPr/>
            <p:nvPr/>
          </p:nvSpPr>
          <p:spPr>
            <a:xfrm>
              <a:off x="1757880" y="2843640"/>
              <a:ext cx="28468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604760" y="2843640"/>
              <a:ext cx="1539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με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9"/>
            <p:cNvSpPr/>
            <p:nvPr/>
          </p:nvSpPr>
          <p:spPr>
            <a:xfrm>
              <a:off x="6144840" y="2843640"/>
              <a:ext cx="27698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We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228600" y="3221280"/>
              <a:ext cx="15292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1"/>
            <p:cNvSpPr/>
            <p:nvPr/>
          </p:nvSpPr>
          <p:spPr>
            <a:xfrm>
              <a:off x="1757880" y="3221280"/>
              <a:ext cx="28468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4604760" y="3221280"/>
              <a:ext cx="1539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ετ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23"/>
            <p:cNvSpPr/>
            <p:nvPr/>
          </p:nvSpPr>
          <p:spPr>
            <a:xfrm>
              <a:off x="6144840" y="3221280"/>
              <a:ext cx="27698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You (pl.)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228600" y="3599640"/>
              <a:ext cx="15292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λεγ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1757880" y="3599640"/>
              <a:ext cx="284688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ay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4604760" y="3599640"/>
              <a:ext cx="153972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  <a:ea typeface="Times New Roman"/>
                </a:rPr>
                <a:t>βλεπουσι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6144840" y="3599640"/>
              <a:ext cx="276984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They are se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3"/>
          <p:cNvSpPr/>
          <p:nvPr/>
        </p:nvSpPr>
        <p:spPr>
          <a:xfrm>
            <a:off x="142920" y="4514760"/>
            <a:ext cx="8658360" cy="10994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Once you know the Present of </a:t>
            </a:r>
            <a:r>
              <a:rPr b="0" lang="el-GR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36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you know the Present of almost every Greek verb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0"/>
          <p:cNvSpPr/>
          <p:nvPr/>
        </p:nvSpPr>
        <p:spPr>
          <a:xfrm>
            <a:off x="4611600" y="24685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βλεπ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4DF0CC45-42A9-4421-AB80-595DC521DAE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34" name="Text Box 4"/>
          <p:cNvSpPr/>
          <p:nvPr/>
        </p:nvSpPr>
        <p:spPr>
          <a:xfrm>
            <a:off x="857160" y="1428840"/>
            <a:ext cx="7358040" cy="194040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Greek grammar is very regu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ut with many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minor adjust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hen certain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</a:rPr>
              <a:t>letters comb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4"/>
          <p:cNvSpPr/>
          <p:nvPr/>
        </p:nvSpPr>
        <p:spPr>
          <a:xfrm>
            <a:off x="71280" y="4214880"/>
            <a:ext cx="914400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: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+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rops out before long vowel or diphth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37716FC8-6D3A-4B4F-B02A-444CCC18D39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140" name=""/>
          <p:cNvGraphicFramePr/>
          <p:nvPr/>
        </p:nvGraphicFramePr>
        <p:xfrm>
          <a:off x="166680" y="1576440"/>
          <a:ext cx="8763120" cy="4281480"/>
        </p:xfrm>
        <a:graphic>
          <a:graphicData uri="http://schemas.openxmlformats.org/drawingml/2006/table">
            <a:tbl>
              <a:tblPr/>
              <a:tblGrid>
                <a:gridCol w="2679840"/>
                <a:gridCol w="1807920"/>
                <a:gridCol w="42753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ual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ocess of getting the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lov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 or it is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l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i="1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ουσ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</a:t>
                      </a:r>
                      <a:r>
                        <a:rPr b="0" lang="el-GR" sz="20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2F494F9E-9F41-46BA-A0F2-B4CF6748C7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285840" y="2000160"/>
            <a:ext cx="8420040" cy="2319840"/>
          </a:xfrm>
          <a:prstGeom prst="rect">
            <a:avLst/>
          </a:prstGeom>
          <a:noFill/>
          <a:ln w="3168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ω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bs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e always listed in vocabularies or dictionaries in their uncontracted form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though this form will never be found in Greek (since it would have contracted into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-257040" y="233280"/>
            <a:ext cx="862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ESENT TENSE OF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εω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ERBS</a:t>
            </a: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3300" spc="-1" strike="noStrike">
                <a:solidFill>
                  <a:srgbClr val="000000"/>
                </a:solidFill>
                <a:latin typeface="Calibri"/>
              </a:rPr>
              <a:t>(φιλεω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14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6214B080-4ED1-42F5-92A5-DBF73A4AE6E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785880" y="428760"/>
            <a:ext cx="664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fld id="{7F99BEB2-A46C-4063-9CDC-D4252595434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62040" y="2768760"/>
          <a:ext cx="6172200" cy="21841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in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s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ογ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 Box 76"/>
          <p:cNvSpPr/>
          <p:nvPr/>
        </p:nvSpPr>
        <p:spPr>
          <a:xfrm>
            <a:off x="1523880" y="18543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1 The forms of </a:t>
            </a: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ογ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-257040" y="233280"/>
            <a:ext cx="862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3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NOMINATIVE AND ACCUSATIVE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071720" y="2000160"/>
            <a:ext cx="65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.2 The Meaning of the Nominative and Accusative C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2000160" y="3429000"/>
            <a:ext cx="5143680" cy="1191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Nominative – Su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cusative –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2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0:50:58Z</dcterms:created>
  <dc:creator>Sarah</dc:creator>
  <dc:description/>
  <dc:language>en-US</dc:language>
  <cp:lastModifiedBy>Sarah</cp:lastModifiedBy>
  <dcterms:modified xsi:type="dcterms:W3CDTF">2008-08-25T11:50:21Z</dcterms:modified>
  <cp:revision>53</cp:revision>
  <dc:subject/>
  <dc:title>Slide 1</dc:title>
</cp:coreProperties>
</file>